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1.jpeg" ContentType="image/jpeg"/>
  <Override PartName="/ppt/media/image15.wmf" ContentType="image/x-wmf"/>
  <Override PartName="/ppt/media/drumroll.wav" ContentType="audio/x-wav"/>
  <Override PartName="/ppt/media/image20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chimes.wav" ContentType="audio/x-wav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1350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991200" cy="9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77920" y="696600"/>
            <a:ext cx="4635360" cy="34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31680" y="4404960"/>
            <a:ext cx="5126040" cy="4173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Murphy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rphy Script"/>
              </a:rPr>
              <a:t>5A's Game Plan, 2001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6072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Murphy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D06C500-8FCA-4229-8F7D-16CE757E2215}" type="slidenum">
              <a:rPr b="0" lang="en-US" sz="1200" spc="-1" strike="noStrike">
                <a:solidFill>
                  <a:srgbClr val="000000"/>
                </a:solidFill>
                <a:latin typeface="Murphy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rphy Script"/>
              </a:rPr>
              <a:t>5A's Game Plan, 2001-2002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96072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5DBCD26-7E25-46E7-9D8D-7378028DA2E0}" type="slidenum">
              <a:rPr b="0" lang="en-US" sz="1200" spc="-1" strike="noStrike">
                <a:solidFill>
                  <a:srgbClr val="ffffff"/>
                </a:solidFill>
                <a:latin typeface="Murphy Scrip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04960"/>
            <a:ext cx="51260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FA8-00E1-477A-B9FF-FFF37880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1B7-5B20-4D2E-9623-E99B20F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930-68F2-4E8C-9A2E-FB7B546B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321-2760-4AF0-9A78-5ED45965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BDC0-99E3-4A13-BCCA-5C761AF0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B0BA-752E-4296-83A3-B2590C7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9C2-D369-43EF-9BBB-19133CC5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8859-3CAA-4FE1-B110-4C652FA1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AC02-C743-49EE-9472-FE365F5B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16D-BCD3-4B0F-9C53-21DFBCF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D108-981E-480C-84FA-715198C1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00E-63A9-4D67-9B8B-0157DEBD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518-1578-40CB-AAEB-76457CE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C469-507A-47A4-9EE0-719552E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02F9-A6C6-4EAB-9B19-1BB7B861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9480-544E-4D61-B009-865D7BE0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81E-D950-45D0-9AFB-0F1981ED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AF9-A002-4537-A6A4-DDE65E7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EE0-1B07-440E-9C3E-3DAC65A0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C68-DEAB-4C11-BE7D-121A2A24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CEC-EC6F-4040-B04D-0A3F7C21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BCE-CC51-4C77-B326-E80F5E0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216-B0AA-4B49-9AC3-056B1D1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FD6-8693-4854-B141-C6F6EDE7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7BA1-0536-4E3B-B87C-874D04D3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116-9E5D-4020-8CED-0B19F4F582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5a2011.wikispaces.com/" TargetMode="External"/><Relationship Id="rId2" Type="http://schemas.openxmlformats.org/officeDocument/2006/relationships/hyperlink" Target="http://www.5th2011.wikispaces.com/" TargetMode="External"/><Relationship Id="rId3" Type="http://schemas.openxmlformats.org/officeDocument/2006/relationships/hyperlink" Target="http://www.cm5c.wikispaces.com/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5a2011.wikispaces.com/news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D47-4613-475B-9466-66AEDB4F5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Jokerman"/>
              </a:rPr>
              <a:t>Welcome to 5</a:t>
            </a:r>
            <a:r>
              <a:rPr b="0" lang="en-US" sz="4400" spc="-1" strike="noStrike" baseline="30000">
                <a:solidFill>
                  <a:srgbClr val="ccecff"/>
                </a:solidFill>
                <a:latin typeface="Jokerman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Jokerman"/>
              </a:rPr>
              <a:t> Grade!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Jokerman"/>
              </a:rPr>
              <a:t>We are glad you are here!</a:t>
            </a:r>
            <a:br>
              <a:rPr sz="44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s. Jennifer Bouska – 5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rs. Jennifer Reed – 5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rs. Kathy Stamets – 5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rie Martin Elementary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2895480" y="4495680"/>
            <a:ext cx="373392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A586-DE15-47F9-883D-127225BEF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ocial and Work Habits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tion of the Report Car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ccepts responsibility for personal 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s courteous and respect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hows self-discip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rticipates/Contributes in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orks well with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051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stens to and follows dir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letes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es time wis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plays independence in 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s material available and re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143000" y="1371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You’ll also earn marks for Outstanding, Expected, or Needs Improvement in these social and work habit area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21C-F3CC-45B1-A0CE-7D1CBE9B9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n 5</a:t>
            </a:r>
            <a:r>
              <a:rPr b="0" lang="en-US" sz="32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 grade, we have just a few important rules to help us focus on learning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belong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opi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8" descr="MCj03839720000[1]"/>
          <p:cNvPicPr/>
          <p:nvPr/>
        </p:nvPicPr>
        <p:blipFill>
          <a:blip r:embed="rId1"/>
          <a:stretch/>
        </p:blipFill>
        <p:spPr>
          <a:xfrm>
            <a:off x="3809880" y="4800600"/>
            <a:ext cx="1371600" cy="1122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32767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5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 Grade Rules!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41972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a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wor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mistak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succes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810B-9025-4503-A67D-47EBBE3974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itive Behavior Makes a Differenc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sh for Class” – for shopp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ught RO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ognition by Mrs. Weitzel at the end of the qu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pected or Outstanding mark on the report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6397-6769-4371-9DC4-15467D4E1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Consequences to Avoi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directs (warnin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foc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tudents may complete a Refocus Sheet that will be sent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ss of re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-school susp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sp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nes (loss of “Cash for Class” doll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ss of privileges for participation in fu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eds improvement mark on the report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6AB-3D17-4DB1-9990-F1CC49ED9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Homewor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mework is intended to reinforce skills we’ve learned i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re will be days that homework can be started during class.  On these occasions, be sure to use your time wisely and ask your teachers questions.</a:t>
            </a:r>
            <a:r>
              <a:rPr b="0" lang="en-US" sz="2400" spc="-1" strike="noStrike">
                <a:solidFill>
                  <a:srgbClr val="d9fd25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you don’t have time to do a good job on the assignment, please take it home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the Five Steps to Homework Succ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F77-1B9E-4F66-9774-1BB4E7ABF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ve Steps to Homework Success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Write the assignment down in your pla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ake home all of the materials you’ll need to complete the homework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Complete the homework carefully, proofreading and checking for quality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Put your homework in a safe place in your backpack or b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d25"/>
                </a:solidFill>
                <a:latin typeface="Arial"/>
              </a:rPr>
              <a:t>5. Bring the assignment back to school and turn it in at the assigned time with your name on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4495680" y="2590920"/>
            <a:ext cx="257400" cy="304560"/>
          </a:xfrm>
          <a:prstGeom prst="downArrow">
            <a:avLst>
              <a:gd name="adj1" fmla="val 50000"/>
              <a:gd name="adj2" fmla="val 295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4495680" y="1523880"/>
            <a:ext cx="257400" cy="304920"/>
          </a:xfrm>
          <a:prstGeom prst="downArrow">
            <a:avLst>
              <a:gd name="adj1" fmla="val 50000"/>
              <a:gd name="adj2" fmla="val 296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495680" y="3809880"/>
            <a:ext cx="257400" cy="304920"/>
          </a:xfrm>
          <a:prstGeom prst="downArrow">
            <a:avLst>
              <a:gd name="adj1" fmla="val 50000"/>
              <a:gd name="adj2" fmla="val 296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4495680" y="4800600"/>
            <a:ext cx="257400" cy="304920"/>
          </a:xfrm>
          <a:prstGeom prst="downArrow">
            <a:avLst>
              <a:gd name="adj1" fmla="val 50000"/>
              <a:gd name="adj2" fmla="val 296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ekly 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th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vestigations page almost every evening Mon. – Thurs. &amp; study for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math fac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eading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50 minutes on log due every Thur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pelling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onday – Sor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uesday – Sentences Page (last page of spelling packet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dnesday – Pretest at home with parent/adult signatur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ou can do a pretest on SpellingCity.com if you are able to print your result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ursday – In class t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cience &amp; Social Studies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signments based on unit of stud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BA42-BE64-4F37-A91E-4A3EEE8F4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A7C-AC6A-4B9E-9553-D69D7F0BBD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lanner Example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similar to student planner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52480" y="182880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 D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 “Fox Song;” answer questions 1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nesday, Sept. 7 at 8:45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u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p. 10 on types of senten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day, Sept. 8 at 11:55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ish Lesson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sday, Sept. 6 at 9:2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e math fa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z on Fri., Sept.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 and take notes over Chapter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 due on Mon., Sept.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for quiz on process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z on Tues., Sept. 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62"/>
          <p:cNvSpPr/>
          <p:nvPr/>
        </p:nvSpPr>
        <p:spPr>
          <a:xfrm>
            <a:off x="2031840" y="11923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ate:  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7" name="Picture 63" descr="MCj04414000000[1]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228600" y="5638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***Planners must be signed by parents/guardians every night.***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57E-EEF6-4780-AA98-759583D0CC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ate Work Polic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r homework is not turned in on time, use a homework coupon (2 coupons per quarter) or you will earn a 0% for incomplete work if you are out of coup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ly, you will receive a refocus for not being prepared fo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if you use a coupon or earn a 0% for incomplete work, you should complete the missed work to keep up with you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4" descr="MCj04375630000[1]"/>
          <p:cNvPicPr/>
          <p:nvPr/>
        </p:nvPicPr>
        <p:blipFill>
          <a:blip r:embed="rId1"/>
          <a:stretch/>
        </p:blipFill>
        <p:spPr>
          <a:xfrm>
            <a:off x="6477120" y="76320"/>
            <a:ext cx="82224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8D36-D6FB-4604-91DC-B7B6F8ED3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Hour of Consistent Homework Tim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 expect you to develop good study habits.  This is essential for next ye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uring the 1-hour homework time, you shoul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)  Finish assignments that are due the nex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2)  Work on long-term assignments/project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)  Study for routine tests: spelling and ma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)  Review for major 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)  Read, Read, Rea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5" descr="MCj03974900000[1]"/>
          <p:cNvPicPr/>
          <p:nvPr/>
        </p:nvPicPr>
        <p:blipFill>
          <a:blip r:embed="rId1"/>
          <a:stretch/>
        </p:blipFill>
        <p:spPr>
          <a:xfrm>
            <a:off x="3733920" y="5029200"/>
            <a:ext cx="182556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3A06-2FCA-483F-A672-C0EDA4716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Narrow"/>
              </a:rPr>
              <a:t>Welcome to 5</a:t>
            </a:r>
            <a:r>
              <a:rPr b="0" lang="en-US" sz="54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5400" spc="-1" strike="noStrike">
                <a:solidFill>
                  <a:srgbClr val="ccecff"/>
                </a:solidFill>
                <a:latin typeface="Arial Narrow"/>
              </a:rPr>
              <a:t> Grad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 are glad you’re 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2" descr="MCPE00321_0000[1]"/>
          <p:cNvPicPr/>
          <p:nvPr/>
        </p:nvPicPr>
        <p:blipFill>
          <a:blip r:embed="rId1"/>
          <a:stretch/>
        </p:blipFill>
        <p:spPr>
          <a:xfrm>
            <a:off x="3657600" y="2057400"/>
            <a:ext cx="22114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EE4-7F56-47B5-9E9E-93A63CC06C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Create Positive Study Habi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oose a quiet study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ad and follow all dir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o your work neatly and carefu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k for help if you need it, but do the work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isten carefully to what your teacher tells you to read or study.  Pay attention to what the teacher emphasizes or str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now what kind of a test you’re going to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and recite the facts you’ve lear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MPj04095080000[1]"/>
          <p:cNvPicPr/>
          <p:nvPr/>
        </p:nvPicPr>
        <p:blipFill>
          <a:blip r:embed="rId1"/>
          <a:stretch/>
        </p:blipFill>
        <p:spPr>
          <a:xfrm>
            <a:off x="5638680" y="1219320"/>
            <a:ext cx="2743200" cy="183024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FD1-1C6A-41CA-8287-09065F2366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Assess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ekly assignments and/or tests in spelling,  reading, writing, math facts, math, science, and social stu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ct tests in reading, language, and math in September and Jan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e tests in reading, writing, math, and science in March/Apr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4" descr="MPj04395430000[1]"/>
          <p:cNvPicPr/>
          <p:nvPr/>
        </p:nvPicPr>
        <p:blipFill>
          <a:blip r:embed="rId1"/>
          <a:stretch/>
        </p:blipFill>
        <p:spPr>
          <a:xfrm>
            <a:off x="3581280" y="4876920"/>
            <a:ext cx="2133720" cy="142056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BBC-97A4-40AD-8E29-2791BEC0B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Grad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ur grading scale is as foll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90% - 100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80% -  89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70% -  79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60% -  69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59% and lowe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Zeros can really hurt your grade.  For example, if you had these 5 math grades:  100, 90, 80, 70, 80, your average would be an 84% for a “B”.  Replace one of the 80% grades with a zero, and your average would be a 68% for a “D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ke a decision right from the start not to let a zero lower your gra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MCj03974820000[1]"/>
          <p:cNvPicPr/>
          <p:nvPr/>
        </p:nvPicPr>
        <p:blipFill>
          <a:blip r:embed="rId1"/>
          <a:stretch/>
        </p:blipFill>
        <p:spPr>
          <a:xfrm>
            <a:off x="5943600" y="609480"/>
            <a:ext cx="243828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DC5E-B776-455C-9F86-0DF0E19082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Classroom Wikispa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 have classroom Wikispaces for Teach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A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 Narrow"/>
                <a:hlinkClick r:id="rId1"/>
              </a:rPr>
              <a:t>www.5a2011.wikispace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B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 Narrow"/>
                <a:hlinkClick r:id="rId2"/>
              </a:rPr>
              <a:t>www.5th2011.wikispace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C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 Narrow"/>
                <a:hlinkClick r:id="rId3"/>
              </a:rPr>
              <a:t>www.cm5c.wikispace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at kind I find on the Wikispa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sletters, math pages, spelling pages, spelling lists, reading logs, and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students have parent permission slips signed, they will be able to post projects and writings that they are proud of on the Wik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 will not be putting our last names on the Wik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7" descr="MCj04421540000[1]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0DB3-1E3E-467C-982E-EB9EF0B39C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mportant Inform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Students will receive a newsletter on Fridays. The newsletter is the best way of keeping track of assignments, tests, and special announcements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Progress reports will be sent home a few Fridays during each quarter to keep parents updated.  The progress report is to be signed and returned by the following Tuesday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All of our newsletters will be posted on the Wiki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99ff99"/>
                </a:solidFill>
                <a:uFillTx/>
                <a:latin typeface="Arial Narrow"/>
                <a:hlinkClick r:id="rId1"/>
              </a:rPr>
              <a:t>www.5a2011.wikispaces.com/new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Use morning break (snack), lunch recess, and afternoon recess for restroom break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Snacks must be healthy snacks (no candy)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You are welcome to bring treats for your birthday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8E4-67D9-4005-8865-08CAFC4BD4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5" name="Picture 8" descr="MPj04385480000[1]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33044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  <p:sp>
        <p:nvSpPr>
          <p:cNvPr id="346" name="Rectangle 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Thank you for your time!  Any question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051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74E0-255B-4ACB-86A9-3E19236568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Text Box 572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Jokerman"/>
              </a:rPr>
              <a:t>We are looking forward to a great year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50" name="Picture 574" descr="MPj04394420000[1]"/>
          <p:cNvPicPr/>
          <p:nvPr/>
        </p:nvPicPr>
        <p:blipFill>
          <a:blip r:embed="rId1"/>
          <a:stretch/>
        </p:blipFill>
        <p:spPr>
          <a:xfrm>
            <a:off x="3276720" y="1981080"/>
            <a:ext cx="2797200" cy="419112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588A-0665-40EB-822D-A0C71D1F3E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You can experience SUCC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 in 5th Grade by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ing a Positive At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articipating in Discussions and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ing Respo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oing Your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7829-5F99-4053-9370-A2CFA73D37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The goal of 5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 grad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is to get you ready for 6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 grade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verything we do will help prepare you for middle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’ll accomplish our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e step at a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MCj04247300000[1]"/>
          <p:cNvPicPr/>
          <p:nvPr/>
        </p:nvPicPr>
        <p:blipFill>
          <a:blip r:embed="rId1"/>
          <a:stretch/>
        </p:blipFill>
        <p:spPr>
          <a:xfrm>
            <a:off x="3200400" y="220968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MCj04241660000[1]"/>
          <p:cNvPicPr/>
          <p:nvPr/>
        </p:nvPicPr>
        <p:blipFill>
          <a:blip r:embed="rId2"/>
          <a:stretch/>
        </p:blipFill>
        <p:spPr>
          <a:xfrm>
            <a:off x="4952880" y="2133720"/>
            <a:ext cx="94644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07B-D004-4F9C-9317-89BCCE12DD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Are You Ready for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 Middle School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have a consistent 1 hour homework time four days a week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engage in 30 minutes of free reading everyday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use an assignment notebook to keep track of homework and tests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proofread and check for mistakes before turning work in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complete and turn in homework on tim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you able to read and take notes from textbooks and reference materials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you mastered your math facts? (50 facts in 2.5 minutes/100 facts in 5 minu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check with all of your teachers for make-up work when you’ve been absent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have effective study techniques and good test-taking skills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8" descr="MCj04419020000[1]"/>
          <p:cNvPicPr/>
          <p:nvPr/>
        </p:nvPicPr>
        <p:blipFill>
          <a:blip r:embed="rId1"/>
          <a:stretch/>
        </p:blipFill>
        <p:spPr>
          <a:xfrm>
            <a:off x="1676520" y="304920"/>
            <a:ext cx="106992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788-2452-49DC-8EFB-E508375746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If not, that’s what 5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 grade is all abou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6" descr="MPj0438552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419720" cy="331632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757-8E09-4FBD-A894-246BAEDBD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5th Grade Subjects and Teach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Reading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Homeroom Teac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 (Writing)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s. Bouska – 5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pelling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rs. Stamets – 5C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ath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                               Mrs. Reed – 5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cience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cial Stud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4495680" y="1447920"/>
            <a:ext cx="1067040" cy="3200400"/>
          </a:xfrm>
          <a:custGeom>
            <a:avLst/>
            <a:gdLst>
              <a:gd name="textAreaLeft" fmla="*/ 0 w 1067040"/>
              <a:gd name="textAreaRight" fmla="*/ 385200 w 1067040"/>
              <a:gd name="textAreaTop" fmla="*/ 37440 h 3200400"/>
              <a:gd name="textAreaBottom" fmla="*/ 31629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7"/>
                  <a:pt x="10800" y="814"/>
                </a:cubicBezTo>
                <a:lnTo>
                  <a:pt x="10800" y="9986"/>
                </a:lnTo>
                <a:cubicBezTo>
                  <a:pt x="10800" y="10393"/>
                  <a:pt x="16200" y="10800"/>
                  <a:pt x="21600" y="10800"/>
                </a:cubicBezTo>
                <a:cubicBezTo>
                  <a:pt x="16200" y="10800"/>
                  <a:pt x="10800" y="11207"/>
                  <a:pt x="10800" y="11614"/>
                </a:cubicBezTo>
                <a:lnTo>
                  <a:pt x="10800" y="20786"/>
                </a:lnTo>
                <a:cubicBezTo>
                  <a:pt x="10800" y="211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aca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2" name="Picture 9" descr="MCj03974600000[1]"/>
          <p:cNvPicPr/>
          <p:nvPr/>
        </p:nvPicPr>
        <p:blipFill>
          <a:blip r:embed="rId1"/>
          <a:stretch/>
        </p:blipFill>
        <p:spPr>
          <a:xfrm>
            <a:off x="7696080" y="495288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MCj04417320000[1]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3B0-39E4-4094-9208-899A5D09EA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r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Hunt &amp; Mrs. Boy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usic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s. Smelt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.E.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Nypa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brar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Rus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uter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s. Linds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assroom Guidance Lesson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Schmi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2" descr="MCj04355460000[1]"/>
          <p:cNvPicPr/>
          <p:nvPr/>
        </p:nvPicPr>
        <p:blipFill>
          <a:blip r:embed="rId1"/>
          <a:stretch/>
        </p:blipFill>
        <p:spPr>
          <a:xfrm>
            <a:off x="457200" y="5029200"/>
            <a:ext cx="1523880" cy="91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j0285750"/>
          <p:cNvPicPr/>
          <p:nvPr/>
        </p:nvPicPr>
        <p:blipFill>
          <a:blip r:embed="rId2"/>
          <a:stretch/>
        </p:blipFill>
        <p:spPr>
          <a:xfrm>
            <a:off x="6324480" y="5181480"/>
            <a:ext cx="1984320" cy="12193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5th Grade Subjects and Teach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7A27-008B-4008-9521-26610A7D1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The Intermediate Report Car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t’s begin by learning about the report card that you’ll receive at the end of each of the 4 quarters.  You will earn letter grades in each of the following subj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Rea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Writing/Langu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pell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Ma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ocial Studi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ci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531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You will also receive an effort grade for each subject, as well as a mark for Outstanding, Expected, or Needs Improvement for Handwriting, Art, Music, and P.E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1:17:15Z</dcterms:created>
  <dc:creator>CMES</dc:creator>
  <dc:description/>
  <dc:language>en-US</dc:language>
  <cp:lastModifiedBy>Jennifer Bouska</cp:lastModifiedBy>
  <dcterms:modified xsi:type="dcterms:W3CDTF">2010-08-25T22:27:51Z</dcterms:modified>
  <cp:revision>93</cp:revision>
  <dc:subject/>
  <dc:title>5A HANDBOOK</dc:title>
</cp:coreProperties>
</file>